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410-E1AA-4BE8-852B-8BE2E9F8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E5F-7FB4-438A-8AC4-BED8CD41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E4D-90B2-43C5-ADFB-F8333279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D11-B1F5-4474-8223-975D730D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FCFF-BAC6-4BF4-AFDF-8EFCA641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B8B5-1F1D-492A-A93B-7D996B44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0D79-5869-41A2-A017-E0D69CF1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4F76-A9BA-4FE2-8311-0FADAE45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2F8F-C25F-4313-84E5-E65922EF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EC85-1F70-4FB6-A629-835801E1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22DA-C8C9-42DA-BCAA-52D93D72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ABF-D8CF-4ED9-88CD-28B8F90E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C281-5A0A-4C8D-A26E-04D05CEA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6F79-A7A4-4FAE-BDFE-45013540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EF11-250B-438F-8B72-232171C2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7D60-C030-411E-9376-8BB8AAC8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C1A4-4A91-4DAB-8C25-990A61D6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C124-F63D-4F76-99B2-1CEC650B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82D20-2EFF-4576-9CBD-8CD713C6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ED796-2629-4694-B1DF-885CBC49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B3F4D-4393-4801-AC27-D54482E4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A9538-1323-4D05-A05D-88077B3D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B6E-C852-437F-8290-83B34E65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9BE10-C0E7-4EEF-ADDD-4FC5F071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2483-D512-4D09-92E4-36C8C924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1A12-C2FC-4CC3-9732-EA83E40E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0908-0DAD-4928-AB13-D15A20CE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0EE5-A9B7-4A95-9088-5BD5F82B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94847-B9AE-450B-9280-66A82788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40F9-CB46-43C2-B4C9-6BC59E69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319-73C3-4F20-9640-8B0EBEE7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106-60B2-4D2B-AB1F-E9FD3694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66F-10BB-4F2B-B89F-AC4D13B0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C19-3DD3-4439-BE84-B360F824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E56-AE8C-4BF8-9A38-B10E868C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D9B-5C7B-4FAB-94DC-D5B63AF2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2DBCE-B6E7-4071-A255-2C61108E2FE6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F13E9-889E-485A-B7EB-529C5BBB6F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1745C-8A48-4B2E-A8A6-11C9C66EEBBE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722811"/>
                </a:solidFill>
                <a:latin typeface="Corbel"/>
              </a:rPr>
              <a:t>МАТЕМАТИЧЕСКИЙ КВН</a:t>
            </a:r>
            <a:br>
              <a:rPr sz="7200"/>
            </a:br>
            <a:r>
              <a:rPr b="1" i="1" lang="ru-RU" sz="4000" spc="-1" strike="noStrike">
                <a:solidFill>
                  <a:srgbClr val="722811"/>
                </a:solidFill>
                <a:latin typeface="Corbel"/>
              </a:rPr>
              <a:t>ИГРА 5-7 КЛАССЫ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2916360" y="3716280"/>
            <a:ext cx="62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Джабаева Седефханум Гасановна –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МОУ «Никольская ООШ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0" name="Рисунок 11" descr="F:\logo-2016\Primary_logo_256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700360" y="476280"/>
            <a:ext cx="4032360" cy="936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4006080" y="566100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2024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Источники информации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9560" indent="-1350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Times New Roman"/>
                <a:ea typeface="Times New Roman"/>
              </a:rPr>
              <a:t>Математика. 5 класс. Виленкин Н.Я., Жохов В.И., Чесноков А.С., Шварцбурд С.И. Мнемозина, 2010 • Контрольные и самостоятельные работы по математике: 5 класс: К учебнику Н.Я.Виленкина и др. Изд. 1-е/ 3-е, стереотип. 2008 г. 96 стр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69560" indent="-1350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Times New Roman"/>
                <a:ea typeface="Times New Roman"/>
              </a:rPr>
              <a:t>Занимательная математика на уроках и внеклассных мероприятиях: 58 классы: Нестандартные уроки; Занимательные задачи; Игры и др. Автор: Щербакова Ю.В., Глобус, 2008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69560" indent="-1350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Times New Roman"/>
                <a:ea typeface="Times New Roman"/>
              </a:rPr>
              <a:t>Занимательная математика 5-11 классы (Как сделать уроки не скучными). Автор-составитель Т.Д.Гаврилова. – Волгоград: Учитель, 2004г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69560" indent="-1350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Times New Roman"/>
                <a:ea typeface="Times New Roman"/>
              </a:rPr>
              <a:t>Математика (Предметная неделя в школе). Автор: Г.И.Григорьева. –М: Глобус, 2008г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806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6600" spc="-1" strike="noStrike">
                <a:solidFill>
                  <a:srgbClr val="722811"/>
                </a:solidFill>
                <a:latin typeface="Corbel"/>
              </a:rPr>
              <a:t>Девиз:</a:t>
            </a:r>
            <a:endParaRPr b="0" lang="en-US" sz="6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55280" y="1916280"/>
            <a:ext cx="82090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6600" spc="-1" strike="noStrike">
                <a:solidFill>
                  <a:srgbClr val="404042"/>
                </a:solidFill>
                <a:latin typeface="Corbel"/>
              </a:rPr>
              <a:t>«Думай, пробуй и ищи, будет трудно – не пищи!»</a:t>
            </a:r>
            <a:endParaRPr b="0" lang="en-US" sz="6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66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p:transition>
    <p:pull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980640"/>
            <a:ext cx="7859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6600" spc="-1" strike="noStrike">
                <a:solidFill>
                  <a:srgbClr val="722811"/>
                </a:solidFill>
                <a:latin typeface="Corbel"/>
              </a:rPr>
              <a:t>1 Конкурс</a:t>
            </a:r>
            <a:endParaRPr b="0" lang="en-US" sz="6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26920" y="2997000"/>
            <a:ext cx="806616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1500" spc="-1" strike="noStrike">
                <a:solidFill>
                  <a:srgbClr val="404042"/>
                </a:solidFill>
                <a:latin typeface="Corbel"/>
              </a:rPr>
              <a:t>«Визитка»</a:t>
            </a:r>
            <a:endParaRPr b="0" lang="en-US" sz="115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p:transition>
    <p:pull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806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6600" spc="-1" strike="noStrike">
                <a:solidFill>
                  <a:srgbClr val="722811"/>
                </a:solidFill>
                <a:latin typeface="Corbel"/>
              </a:rPr>
              <a:t>2 Конкурс</a:t>
            </a:r>
            <a:endParaRPr b="0" lang="en-US" sz="6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55280" y="2852280"/>
            <a:ext cx="82090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1500" spc="-1" strike="noStrike">
                <a:solidFill>
                  <a:srgbClr val="404042"/>
                </a:solidFill>
                <a:latin typeface="Corbel"/>
              </a:rPr>
              <a:t>«Разминка»</a:t>
            </a:r>
            <a:endParaRPr b="0" lang="en-US" sz="115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5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p:transition>
    <p:pull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806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6600" spc="-1" strike="noStrike">
                <a:solidFill>
                  <a:srgbClr val="722811"/>
                </a:solidFill>
                <a:latin typeface="Corbel"/>
              </a:rPr>
              <a:t>3 Конкурс</a:t>
            </a:r>
            <a:endParaRPr b="0" lang="en-US" sz="6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280" y="2133720"/>
            <a:ext cx="820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1500" spc="-1" strike="noStrike">
                <a:solidFill>
                  <a:srgbClr val="404042"/>
                </a:solidFill>
                <a:latin typeface="Corbel"/>
              </a:rPr>
              <a:t>«Решаем вместе»</a:t>
            </a:r>
            <a:endParaRPr b="0" lang="en-US" sz="115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5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p:transition>
    <p:pull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5900" spc="-1" strike="noStrike">
                <a:solidFill>
                  <a:srgbClr val="722811"/>
                </a:solidFill>
                <a:latin typeface="Corbel"/>
              </a:rPr>
              <a:t>4 Конкурс</a:t>
            </a:r>
            <a:endParaRPr b="0" lang="en-US" sz="5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2276280"/>
            <a:ext cx="4475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6600" spc="-1" strike="noStrike">
                <a:solidFill>
                  <a:srgbClr val="404042"/>
                </a:solidFill>
                <a:latin typeface="Corbel"/>
              </a:rPr>
              <a:t>«</a:t>
            </a:r>
            <a:r>
              <a:rPr b="1" i="1" lang="ru-RU" sz="7200" spc="-1" strike="noStrike">
                <a:solidFill>
                  <a:srgbClr val="404042"/>
                </a:solidFill>
                <a:latin typeface="Corbel"/>
              </a:rPr>
              <a:t>Собери робота»</a:t>
            </a:r>
            <a:endParaRPr b="0" lang="en-US" sz="72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2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47" name="Picture 6" descr="D:\Документы\Рабочий стол\РОБОТ.bmp"/>
          <p:cNvPicPr/>
          <p:nvPr/>
        </p:nvPicPr>
        <p:blipFill>
          <a:blip r:embed="rId2"/>
          <a:stretch/>
        </p:blipFill>
        <p:spPr>
          <a:xfrm>
            <a:off x="5549760" y="2057400"/>
            <a:ext cx="1866960" cy="4022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806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6600" spc="-1" strike="noStrike">
                <a:solidFill>
                  <a:srgbClr val="722811"/>
                </a:solidFill>
                <a:latin typeface="Corbel"/>
              </a:rPr>
              <a:t>5 Конкурс</a:t>
            </a:r>
            <a:endParaRPr b="0" lang="en-US" sz="6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5280" y="2852280"/>
            <a:ext cx="82090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9600" spc="-1" strike="noStrike">
                <a:solidFill>
                  <a:srgbClr val="404042"/>
                </a:solidFill>
                <a:latin typeface="Corbel"/>
              </a:rPr>
              <a:t>«Треугольник»</a:t>
            </a:r>
            <a:endParaRPr b="0" lang="en-US" sz="9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6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p:transition>
    <p:pull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806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6600" spc="-1" strike="noStrike">
                <a:solidFill>
                  <a:srgbClr val="722811"/>
                </a:solidFill>
                <a:latin typeface="Corbel"/>
              </a:rPr>
              <a:t>6 Конкурс</a:t>
            </a:r>
            <a:endParaRPr b="0" lang="en-US" sz="6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55280" y="2060280"/>
            <a:ext cx="8209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1500" spc="-1" strike="noStrike">
                <a:solidFill>
                  <a:srgbClr val="404042"/>
                </a:solidFill>
                <a:latin typeface="Corbel"/>
              </a:rPr>
              <a:t>«Разгадай ребус»</a:t>
            </a:r>
            <a:endParaRPr b="0" lang="en-US" sz="115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5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p:transition>
    <p:pull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 rot="20624400">
            <a:off x="66240" y="1134720"/>
            <a:ext cx="9010800" cy="15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9600" spc="-1" strike="noStrike">
                <a:solidFill>
                  <a:srgbClr val="722811"/>
                </a:solidFill>
                <a:latin typeface="Corbel"/>
              </a:rPr>
              <a:t>Спасибо!</a:t>
            </a:r>
            <a:endParaRPr b="0" lang="en-US" sz="96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6" name="Picture 2" descr="E:\Новая папка (3)\images.jpg"/>
          <p:cNvPicPr/>
          <p:nvPr/>
        </p:nvPicPr>
        <p:blipFill>
          <a:blip r:embed="rId2"/>
          <a:stretch/>
        </p:blipFill>
        <p:spPr>
          <a:xfrm>
            <a:off x="4716360" y="2492280"/>
            <a:ext cx="3672000" cy="38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3:25:17Z</dcterms:created>
  <dc:creator>dobraya</dc:creator>
  <dc:description/>
  <dc:language>en-US</dc:language>
  <cp:lastModifiedBy>Admin</cp:lastModifiedBy>
  <dcterms:modified xsi:type="dcterms:W3CDTF">2024-02-05T11:29:53Z</dcterms:modified>
  <cp:revision>40</cp:revision>
  <dc:subject/>
  <dc:title>Слайд 1</dc:title>
</cp:coreProperties>
</file>